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061-B176-4FE0-B02F-DF3FB322D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E9F-D62F-44F4-9CF3-C984B0964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5A02-BE3F-4F4C-AD4B-BEA038533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816-3751-4535-8A0C-630B3966E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15A-66FA-4DCD-B2FF-5272EF4C1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5490-86B9-4568-9D68-5280A309C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7BC3-A8ED-4F61-B217-C9B6A529A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2E04-9CF4-4D63-A219-C0F589EFA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4FE2-5F44-41B6-BCB8-BC0950CE1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52C6-F19F-4F52-B843-262FFE64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C6E6-BC44-4F71-A775-8A29117CD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9635-3081-4E6B-BE49-22B8EAF4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EF0-58A2-49FA-8CF2-3B126309A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E97-C128-4B8A-AC3B-E30942513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AD5-6828-42DF-B36F-BF132B7D3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2878-D3F0-4BF0-ABB6-E75CC5499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D1A-AE11-475E-AFE6-521E720BE2C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A027-7723-40C2-B3F4-E3DAC6864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124-8A1E-4CB5-B9C3-42434CE1F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2FD-413C-4D88-B210-869DAEF816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9E7-CF90-4CF1-8AF9-A3F550B1E4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0B0D-9704-44FD-A0B9-7B4E663078D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995A-1026-4781-952B-68AA92BB5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A33-EB40-46E0-A969-2B4028296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BAA5-09B4-45ED-AC21-BD1F4B9F7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1AB-20C2-4D08-ABF3-88A6529F0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205-573E-4048-AC1E-82DB1AA24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EF4B-2274-42AB-88A2-C28416815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1C4-FD82-4606-86CF-5EE1365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C3D-8E37-4D38-A556-4E5D971F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F28-EFA3-45E8-BC1D-36EF45A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2BC-222E-4873-9BE2-C3EB0699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62B3-8D44-4336-82D5-F022517B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293-6C63-42E0-981B-9DC1DA4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0131-50E1-45B5-BCAA-64CC641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620-42F1-4133-B796-119A6857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5952-ECA8-430F-AD6C-BB1EABF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464-1958-4611-8F15-D5F6A1A9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780-E4D5-49B8-B896-35B18C1F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4E7-61C0-45B2-A5B0-6CCEBC9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FE4-EE2C-409B-ACFC-7B1D8E7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BAC3-CDBD-4C3E-BD9A-BA66FCF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15F-63C5-420E-B2D7-0E1B87A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8772-43FA-43C1-BEFF-F59DC03E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C13-963C-45EF-AE87-8BD879A4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E784B-52D0-4C8E-8BF0-9735DFE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0251F-A03F-4985-B9EC-BD34A1C1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19C09-73A6-4FDB-811A-C107163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13E71-BEF0-4EE9-8A0F-0AA9F46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D8912-5447-428E-B156-31BF1ABA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A10-E805-45C6-902B-7F0298BB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6ED39-D4FB-4414-B321-FBE31D0C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67CD1-82BB-4136-BE88-0DB04ED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4D32B-A022-4DA0-9681-F0C7A266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8A4F5-21BD-4264-B593-0DC1BC0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9442E-9AD8-4665-BE39-77B0DD65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ECADF-B580-43C1-8565-0C045E28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F9BE1-9515-4DD3-8C4E-32504AF1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64A-6D9C-4F92-B86D-A9FA4216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A26-1C61-451C-BA63-FF3D811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A2F-279C-4562-972E-F7CB8FFC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57A-8373-4533-9BC5-8B91123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F40-7116-4EF1-B11A-2A2638E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8DD-C532-4DA0-A052-0D59CD1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2960-3D46-4E4D-A1B5-2D665F9C2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357D-332F-4B05-B222-57E893903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B999-2BC7-4C0F-8230-DBF68748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eltx.com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wales/audiovideo/sites/about/pages/howto.s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reativity through I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63244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ren.yager@det.nsw.edu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28600" y="228600"/>
            <a:ext cx="2286000" cy="5205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95480" y="228600"/>
            <a:ext cx="175284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029200" y="228600"/>
            <a:ext cx="1371600" cy="520560"/>
          </a:xfrm>
          <a:prstGeom prst="rect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781680" y="228600"/>
            <a:ext cx="213372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7"/>
          <p:cNvSpPr/>
          <p:nvPr/>
        </p:nvSpPr>
        <p:spPr>
          <a:xfrm>
            <a:off x="25909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8"/>
          <p:cNvSpPr/>
          <p:nvPr/>
        </p:nvSpPr>
        <p:spPr>
          <a:xfrm>
            <a:off x="4724280" y="38088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9"/>
          <p:cNvSpPr/>
          <p:nvPr/>
        </p:nvSpPr>
        <p:spPr>
          <a:xfrm>
            <a:off x="6477120" y="380880"/>
            <a:ext cx="30456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gradFill rotWithShape="0">
            <a:gsLst>
              <a:gs pos="0">
                <a:srgbClr val="96c1c1"/>
              </a:gs>
              <a:gs pos="100000">
                <a:srgbClr val="e1ebe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Calibri"/>
              </a:rPr>
              <a:t>Digital Storytelling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very community has a memory of itself.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 living memory, an awareness of a collective identity woven of a thousand storie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ybrid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2345232195_17a7f58d6c.jpg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57200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rratives for the futu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n criteri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dienc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 structure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as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acter &amp; setting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cabulary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hesion: 0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agraphing: 0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tence structure: 0-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nctuation: 0-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lling: 0- 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Naplan_Story.jpg"/>
          <p:cNvPicPr/>
          <p:nvPr/>
        </p:nvPicPr>
        <p:blipFill>
          <a:blip r:embed="rId1"/>
          <a:stretch/>
        </p:blipFill>
        <p:spPr>
          <a:xfrm>
            <a:off x="4876920" y="1039680"/>
            <a:ext cx="4267080" cy="5818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naplan.edu.au/verve/_resources/NAPLAN_banner5_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581280" cy="944640"/>
          </a:xfrm>
          <a:prstGeom prst="rect">
            <a:avLst/>
          </a:pr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4475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, engage and affect the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 and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phistication: A twist, irony, subversion through the un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001359_20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3886200" cy="868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sation of a narrativ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, complication, resolution, c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back, different perspectives, circular, parallel, stream of consciousness, moral, ref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writing.png"/>
          <p:cNvPicPr/>
          <p:nvPr/>
        </p:nvPicPr>
        <p:blipFill>
          <a:blip r:embed="rId1"/>
          <a:stretch/>
        </p:blipFill>
        <p:spPr>
          <a:xfrm>
            <a:off x="4419720" y="1440"/>
            <a:ext cx="47242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3886200" cy="792000"/>
          </a:xfrm>
          <a:prstGeom prst="rect">
            <a:avLst/>
          </a:prstGeom>
          <a:gradFill rotWithShape="0">
            <a:gsLst>
              <a:gs pos="0">
                <a:srgbClr val="967865"/>
              </a:gs>
              <a:gs pos="100000">
                <a:srgbClr val="ffd0b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56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reation, selection and craf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orld view,  maturity, extended metaphor, satire, motif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grandpa_TVs_web.jpg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pamalam.co.uk/MUSIC/vocabulary%20abc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267080" cy="114300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nge &amp; precision of language cho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phisticate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figurative and sound devices, powerful verbs, adverbs and adjectives, reflects the gen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ohesion &amp; Digital Story tell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nnecting, linking &amp; developing the narrativ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ophisticated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ffective connectives, continuity of ideas, recurrent 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Focus on topic sentences, connectives and include as part of the assessment task the need for a leitmotif or them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Digital Nar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Cognitive Apprenticeship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practicing real-world work of digital communic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Creativity and Inventive Thinking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creating multi-sensory experiences for other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Higher Order Thinking Skills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going beyond existing information to add personal meaning and understand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Enduring Understanding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by telling the story of what you know and understand for others, authors deepen their own self-meaning of the topic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Visual Literacy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using images to show, not tell, the narrative stor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AU" sz="2300" spc="-1" strike="noStrike">
                <a:solidFill>
                  <a:srgbClr val="000000"/>
                </a:solidFill>
                <a:latin typeface="Calibri"/>
              </a:rPr>
              <a:t>Technical Literacy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— mastering the craftsmanship of applying the technology tools to create powerful communication, not to just use the tools, but to mix and dance the media into illuminated understanding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4920" y="1066680"/>
            <a:ext cx="85341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Information (Media) Literac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thinking, reading, writing, and designing effective media inform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. Effective Communication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reading and writing information beyond 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Teaming and Collaboration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 growing skills through practiced opportunities to co-produce group proj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Project Management Mentalit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practice time management of complex, involved tasks to successfully meet deadlines modelling real-world ta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en-AU" sz="2700" spc="-1" strike="noStrike">
                <a:solidFill>
                  <a:srgbClr val="000000"/>
                </a:solidFill>
                <a:latin typeface="Calibri"/>
              </a:rPr>
              <a:t>Exploring Affinity 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—when students create meaningful, engaged work, they discover themselves as successful learn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Calibri"/>
              </a:rPr>
              <a:t>Digital Narr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142560"/>
            <a:ext cx="3733920" cy="69516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gital Storytel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3810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Everyone has a story to tell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gital time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life-st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 podca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ple end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ernative persp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soundscap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digital po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news repor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travel tale: Google Ear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suitcase-girl_7529636_250%20image_tcm2-12431"/>
          <p:cNvPicPr/>
          <p:nvPr/>
        </p:nvPicPr>
        <p:blipFill>
          <a:blip r:embed="rId1"/>
          <a:stretch/>
        </p:blipFill>
        <p:spPr>
          <a:xfrm>
            <a:off x="40514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500" spc="-1" strike="noStrike">
                <a:solidFill>
                  <a:srgbClr val="000000"/>
                </a:solidFill>
                <a:latin typeface="Calibri"/>
              </a:rPr>
              <a:t>Creativity is generating new ideas that originate from the known. It is a willingness to play with ideas and possibilities, and have a flexibility of outlook. A creative teaching approach in English focuses on getting students to explore, change, or reapply existing ideas, generate possibilities and look for many right answers rather than just one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4190760" cy="716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udents create a fo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raft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or shoot the images that enhance the text or film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cord reading of text on MP3 or micro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wnload any sounds or music or video c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610x.jpg"/>
          <p:cNvPicPr/>
          <p:nvPr/>
        </p:nvPicPr>
        <p:blipFill>
          <a:blip r:embed="rId1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born digital.jpg"/>
          <p:cNvPicPr/>
          <p:nvPr/>
        </p:nvPicPr>
        <p:blipFill>
          <a:blip r:embed="rId2"/>
          <a:stretch/>
        </p:blipFill>
        <p:spPr>
          <a:xfrm>
            <a:off x="4775040" y="320040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716040"/>
          </a:xfrm>
          <a:prstGeom prst="rect">
            <a:avLst/>
          </a:prstGeom>
          <a:solidFill>
            <a:srgbClr val="ffffb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Calibri"/>
              </a:rPr>
              <a:t>Students use a storyboard to plan story, transitions and eff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eltx.com/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: easy to use free software that has outstanding storyboard models and scaffolds for stud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cartoon computer.bmp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632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artoon102.jpg"/>
          <p:cNvPicPr/>
          <p:nvPr/>
        </p:nvPicPr>
        <p:blipFill>
          <a:blip r:embed="rId3"/>
          <a:stretch/>
        </p:blipFill>
        <p:spPr>
          <a:xfrm>
            <a:off x="4121280" y="3657600"/>
            <a:ext cx="5022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02060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bc.co.uk/wales/audiovideo/sites/about/pages/howto.sht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digi-tales.org/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photobus.co.uk/index.php?id=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www.changinglives.com.au/2008/04/abrar-autumn-and-i.html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http://www.dipity.com/ - Digital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filmplus.org/faces/shakespeare1.gif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6891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www.greenfield.durham.sch.uk/images/shakespeare.gif"/>
          <p:cNvPicPr/>
          <p:nvPr/>
        </p:nvPicPr>
        <p:blipFill>
          <a:blip r:embed="rId2"/>
          <a:stretch/>
        </p:blipFill>
        <p:spPr>
          <a:xfrm>
            <a:off x="0" y="5486400"/>
            <a:ext cx="1328760" cy="1371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Reading Shakespeare requires the imagination and daring capacity to entertain ambiguity and the paradoxes of human life and history…to imagine the complex lives of powerfully historicized human beings”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tzger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80520" y="274320"/>
            <a:ext cx="495324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Creativity through Shakespea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Shakespeare2.gif"/>
          <p:cNvPicPr/>
          <p:nvPr/>
        </p:nvPicPr>
        <p:blipFill>
          <a:blip r:embed="rId1"/>
          <a:stretch/>
        </p:blipFill>
        <p:spPr>
          <a:xfrm>
            <a:off x="46530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72428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5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concep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ques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research: locate, evaluate and synthesis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ppositio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http://www.greenfield.durham.sch.uk/images/shakespeare.gif"/>
          <p:cNvPicPr/>
          <p:nvPr/>
        </p:nvPicPr>
        <p:blipFill>
          <a:blip r:embed="rId1"/>
          <a:stretch/>
        </p:blipFill>
        <p:spPr>
          <a:xfrm>
            <a:off x="4572000" y="2454120"/>
            <a:ext cx="3238560" cy="3341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458200" cy="792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Project-based learn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p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people continue to reject Shakespeare’s pl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survey: http://www.zoomerang.com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x p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oduct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, Ning, Moodle, short film, digital repor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3857400" cy="941400"/>
          </a:xfrm>
          <a:prstGeom prst="rect">
            <a:avLst/>
          </a:prstGeom>
          <a:solidFill>
            <a:srgbClr val="ebd68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1920" y="1371240"/>
            <a:ext cx="4133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presentation of a Shakespearian sonnet or a charac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io box for a character in power point or Photo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isual made in Photo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pbs.org/shakespeare/#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http://www.umass.edu/rso/guild/macbeth.jpg"/>
          <p:cNvPicPr/>
          <p:nvPr/>
        </p:nvPicPr>
        <p:blipFill>
          <a:blip r:embed="rId1"/>
          <a:stretch/>
        </p:blipFill>
        <p:spPr>
          <a:xfrm>
            <a:off x="4373640" y="0"/>
            <a:ext cx="4770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brotherb.com/sitebuilder/images/Golden_Crown-760x613.jpg"/>
          <p:cNvPicPr/>
          <p:nvPr/>
        </p:nvPicPr>
        <p:blipFill>
          <a:blip r:embed="rId2"/>
          <a:stretch/>
        </p:blipFill>
        <p:spPr>
          <a:xfrm rot="20289000">
            <a:off x="6784560" y="4617720"/>
            <a:ext cx="2117880" cy="170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ee full size image"/>
          <p:cNvPicPr/>
          <p:nvPr/>
        </p:nvPicPr>
        <p:blipFill>
          <a:blip r:embed="rId3"/>
          <a:stretch/>
        </p:blipFill>
        <p:spPr>
          <a:xfrm>
            <a:off x="4572000" y="2714760"/>
            <a:ext cx="1339920" cy="178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http://shakespeare.learnhub.com/lesson/pages/5169-macbeth-act-five-scene-four/photos/13620-medium.jpg"/>
          <p:cNvPicPr/>
          <p:nvPr/>
        </p:nvPicPr>
        <p:blipFill>
          <a:blip r:embed="rId4"/>
          <a:stretch/>
        </p:blipFill>
        <p:spPr>
          <a:xfrm>
            <a:off x="4429080" y="5643720"/>
            <a:ext cx="1257480" cy="83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CB024414.jpg"/>
          <p:cNvPicPr/>
          <p:nvPr/>
        </p:nvPicPr>
        <p:blipFill>
          <a:blip r:embed="rId5"/>
          <a:stretch/>
        </p:blipFill>
        <p:spPr>
          <a:xfrm rot="622800">
            <a:off x="771516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000" y="152280"/>
            <a:ext cx="4176720" cy="8654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Rhetori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Youtube: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Henry V’s Saint Crispin’s Day Spee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amp; Barack Obama’s victory spe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dcas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iginal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udacity/Garage Band/Adobe Soundbooth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tical commentary on a soliloqu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http://i.dailymail.co.uk/i/pix/2008/10/26/article-1080764-02419940000005DC-221_468x380.jpg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3643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http://www1.pictures.gi.zimbio.com/Barack+Obama+Campaigns+Mississippi+Ahead+State+6UBC3SH_P1Ul.jpg"/>
          <p:cNvPicPr/>
          <p:nvPr/>
        </p:nvPicPr>
        <p:blipFill>
          <a:blip r:embed="rId2"/>
          <a:stretch/>
        </p:blipFill>
        <p:spPr>
          <a:xfrm>
            <a:off x="4694400" y="3643200"/>
            <a:ext cx="4449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480" y="277560"/>
            <a:ext cx="4071960" cy="936360"/>
          </a:xfrm>
          <a:prstGeom prst="rect">
            <a:avLst/>
          </a:prstGeom>
          <a:solidFill>
            <a:srgbClr val="edc99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4181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Textual intervention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Insert comments and track changes on an extract from a play or sonne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Play script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http://celtx.com/ 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bs.org/shakespeare/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000000"/>
                </a:solidFill>
                <a:latin typeface="Calibri"/>
              </a:rPr>
              <a:t>Computer game: </a:t>
            </a:r>
            <a:r>
              <a:rPr b="0" lang="en-AU" sz="3100" spc="-1" strike="noStrike">
                <a:solidFill>
                  <a:srgbClr val="000000"/>
                </a:solidFill>
                <a:latin typeface="Calibri"/>
              </a:rPr>
              <a:t>Flash animation or Kahootz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6" descr="chargilbert"/>
          <p:cNvPicPr/>
          <p:nvPr/>
        </p:nvPicPr>
        <p:blipFill>
          <a:blip r:embed="rId1"/>
          <a:stretch/>
        </p:blipFill>
        <p:spPr>
          <a:xfrm>
            <a:off x="4465800" y="0"/>
            <a:ext cx="4678200" cy="3857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akg9FK-1415-10-25-A1_big.jpg"/>
          <p:cNvPicPr/>
          <p:nvPr/>
        </p:nvPicPr>
        <p:blipFill>
          <a:blip r:embed="rId2"/>
          <a:stretch/>
        </p:blipFill>
        <p:spPr>
          <a:xfrm>
            <a:off x="4476600" y="3786120"/>
            <a:ext cx="4667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045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iki Book Club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key issues concerning creativity is the ability to explore multiple ideas quickly. A wiki allows a learner to quickly post an idea and let other people comment o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4419720" cy="1139760"/>
          </a:xfrm>
          <a:prstGeom prst="rect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reativity through Literature - </a:t>
            </a:r>
            <a:r>
              <a:rPr b="1" i="1" lang="en-AU" sz="29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http://www.wakefield.gov.uk/NR/rdonlyres/EF0F1C1B-4B1A-4ED6-A7E9-F1656C4F60A2/0/Fowler_JaneAustenBookClub.jpg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Title 4"/>
          <p:cNvGrpSpPr/>
          <p:nvPr/>
        </p:nvGrpSpPr>
        <p:grpSpPr>
          <a:xfrm>
            <a:off x="158760" y="189000"/>
            <a:ext cx="3949560" cy="847800"/>
            <a:chOff x="158760" y="189000"/>
            <a:chExt cx="3949560" cy="847800"/>
          </a:xfrm>
        </p:grpSpPr>
        <p:pic>
          <p:nvPicPr>
            <p:cNvPr id="141" name="Title 4" descr=""/>
            <p:cNvPicPr/>
            <p:nvPr/>
          </p:nvPicPr>
          <p:blipFill>
            <a:blip r:embed="rId1"/>
            <a:stretch/>
          </p:blipFill>
          <p:spPr>
            <a:xfrm>
              <a:off x="158760" y="189000"/>
              <a:ext cx="394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8600" y="349200"/>
              <a:ext cx="38098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Calibri"/>
                </a:rPr>
                <a:t>CREATIVITY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Content Placeholder 3" descr="Picture2.pn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generating many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LEXI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hifting perspective eas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conceiving something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URPOSE- Vis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UDIENCE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LABOR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building on other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VALUA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tical 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4419360" cy="124596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Creativity through Literature </a:t>
            </a:r>
            <a:br>
              <a:rPr sz="2800"/>
            </a:br>
            <a:r>
              <a:rPr b="1" i="1" lang="en-AU" sz="28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oogle Lit Trip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lore novel, play or poetry settings or go on a qu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d images, commentary and key qu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a unique Lit Trip for an original story, play or poem - http://www.googlelittrips.org/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5" descr="http://www.bikerwolf.com/098.jpg"/>
          <p:cNvPicPr/>
          <p:nvPr/>
        </p:nvPicPr>
        <p:blipFill>
          <a:blip r:embed="rId1"/>
          <a:stretch/>
        </p:blipFill>
        <p:spPr>
          <a:xfrm>
            <a:off x="4915080" y="0"/>
            <a:ext cx="42289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5"/>
          <p:cNvSpPr/>
          <p:nvPr/>
        </p:nvSpPr>
        <p:spPr>
          <a:xfrm>
            <a:off x="4952880" y="152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by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http://www.draculas.info/_img/gallery/dracula_book_cover_1902_doubleday_89.jpg"/>
          <p:cNvPicPr/>
          <p:nvPr/>
        </p:nvPicPr>
        <p:blipFill>
          <a:blip r:embed="rId2"/>
          <a:stretch/>
        </p:blipFill>
        <p:spPr>
          <a:xfrm rot="20931600">
            <a:off x="4833720" y="4305240"/>
            <a:ext cx="1385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Giving form to our innate human creativity is what defines us to ourselves and the world. The lasting value and evidence of a civilisation are its artistic output and the ingenuity that comes from applying creativity to the whole range of human endeavour”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(Cate Blanchett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572000" cy="792000"/>
          </a:xfrm>
          <a:prstGeom prst="rect">
            <a:avLst/>
          </a:prstGeom>
          <a:gradFill rotWithShape="0">
            <a:gsLst>
              <a:gs pos="0">
                <a:srgbClr val="7e7e7e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rtin Westwell stresses the importance of unstructured, unfettered learning to stimulate creativity, but we ha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s – Naplan, HSC, but wait there’s mor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yllabus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ental and community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search on student out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aching to the exam requirements rather than the course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benjaminlipman.files.wordpress.com/2007/08/berlinwall1.gif"/>
          <p:cNvPicPr/>
          <p:nvPr/>
        </p:nvPicPr>
        <p:blipFill>
          <a:blip r:embed="rId1"/>
          <a:stretch/>
        </p:blipFill>
        <p:spPr>
          <a:xfrm>
            <a:off x="4959360" y="0"/>
            <a:ext cx="418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2f2f2"/>
                </a:solidFill>
                <a:latin typeface="Calibri"/>
              </a:rPr>
              <a:t>A Way Forwar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486400" cy="54864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oyle and Colvin’s research concludes that the brain is phenomenally plastic, and that we construct ourselves through behaviour. As Coyle observes, it’s not who you are, it’s what you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ttie &amp; Dinham’s research attests to the significance of direct instruction and scaffolding the le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reativity is connected to what is alread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ight Arrow 4"/>
          <p:cNvSpPr/>
          <p:nvPr/>
        </p:nvSpPr>
        <p:spPr>
          <a:xfrm>
            <a:off x="5105520" y="3657600"/>
            <a:ext cx="13716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6629400" y="1295280"/>
            <a:ext cx="2209680" cy="49726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ry Creativity &amp;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ep knowledge &amp; deep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grate problematic knowledge and include student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cess first then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reate the environment for cre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itle 1"/>
          <p:cNvGrpSpPr/>
          <p:nvPr/>
        </p:nvGrpSpPr>
        <p:grpSpPr>
          <a:xfrm>
            <a:off x="219240" y="219240"/>
            <a:ext cx="4060800" cy="860400"/>
            <a:chOff x="219240" y="219240"/>
            <a:chExt cx="4060800" cy="860400"/>
          </a:xfrm>
        </p:grpSpPr>
        <p:pic>
          <p:nvPicPr>
            <p:cNvPr id="153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19240"/>
              <a:ext cx="4060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28600" y="22860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Creativit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2286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e questions or state learning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 explicitly the skills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 open-ended, authentic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risk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1914296-2-imagine-creativity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3962160" cy="1143000"/>
          </a:xfrm>
          <a:prstGeom prst="rect">
            <a:avLst/>
          </a:prstGeom>
          <a:solidFill>
            <a:srgbClr val="e86e5a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reativ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5998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with concepts not tex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V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ft or Art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pck2017.jp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igital.GIF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solidFill>
            <a:srgbClr val="a9d7f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IC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26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oday’s digital kids think of information and communications technology (ICT) as something akin to oxygen:  They expect it, it’s what they breathe, and it’s how they live;  They use ICT to meet, play, date, and learn;  It’s an integral part of their social life;   It’s how they acknowledge each other and form their personal identities’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John Seely-Brow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arning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tudents often find it difficult to maintain balance between the design and technology aspects of the creative learning process. Technology can become an obstacle to learning, especially when a student is first exposed to a new and/or novel technology. The student may become too focused on the technology and neglect the need for developing creative ideas…creativity drives technology” (Mohl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0:37:35Z</dcterms:created>
  <dc:creator>Karen</dc:creator>
  <dc:description/>
  <dc:language>en-US</dc:language>
  <cp:lastModifiedBy>Karen Yager</cp:lastModifiedBy>
  <dcterms:modified xsi:type="dcterms:W3CDTF">2009-05-08T12:37:04Z</dcterms:modified>
  <cp:revision>162</cp:revision>
  <dc:subject/>
  <dc:title>Slide 1</dc:title>
</cp:coreProperties>
</file>